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5662613" cy="8797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560-A009-46A0-BB56-C9205278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8F3-85FD-4E1D-A642-02BC58CC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3F7-1B8C-4020-A2E1-6EFF5FDA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228-83AC-41F4-A6BA-AFDEA783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DC3-1E7E-4854-9AAD-664B576A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E1D-FE26-420F-87AE-08942356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318F-066E-4F10-BC7B-6A590B10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965-2679-4415-B455-0763E2DC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AAA-9369-4225-B24A-FA08ACB5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B4B-0146-4F01-86E1-9A39ACA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CE2-6C85-4BEC-998E-8853418B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4F5-D1CF-48DE-A0E7-B6B23E7A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B1F9-D0DE-4764-8C0C-376D2EB73AAC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30840" y="2743200"/>
            <a:ext cx="431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829040" y="2630160"/>
            <a:ext cx="434880" cy="114120"/>
            <a:chOff x="4829040" y="2630160"/>
            <a:chExt cx="434880" cy="114120"/>
          </a:xfrm>
        </p:grpSpPr>
        <p:sp>
          <p:nvSpPr>
            <p:cNvPr id="43" name=""/>
            <p:cNvSpPr/>
            <p:nvPr/>
          </p:nvSpPr>
          <p:spPr>
            <a:xfrm flipH="1" flipV="1">
              <a:off x="4829040" y="2630160"/>
              <a:ext cx="4348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4829040" y="26301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 flipH="1" flipV="1">
            <a:off x="5008680" y="2625480"/>
            <a:ext cx="412560" cy="1141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88840" y="3195720"/>
            <a:ext cx="7620120" cy="3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64200" y="2990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64080" y="2535120"/>
            <a:ext cx="263520" cy="92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1951400">
            <a:off x="4503240" y="2541240"/>
            <a:ext cx="88920" cy="7920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505400" y="2568600"/>
            <a:ext cx="16200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05400" y="28638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30840" y="2743200"/>
            <a:ext cx="431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829040" y="2630160"/>
            <a:ext cx="434880" cy="114120"/>
            <a:chOff x="4829040" y="2630160"/>
            <a:chExt cx="434880" cy="114120"/>
          </a:xfrm>
        </p:grpSpPr>
        <p:sp>
          <p:nvSpPr>
            <p:cNvPr id="54" name=""/>
            <p:cNvSpPr/>
            <p:nvPr/>
          </p:nvSpPr>
          <p:spPr>
            <a:xfrm flipH="1" flipV="1">
              <a:off x="4829040" y="2630160"/>
              <a:ext cx="4348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829040" y="26301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12880" y="3195720"/>
            <a:ext cx="7696080" cy="3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017680" y="2811600"/>
            <a:ext cx="412920" cy="28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25920" y="2808360"/>
            <a:ext cx="663840" cy="212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2360" y="3025800"/>
            <a:ext cx="1273320" cy="16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64200" y="2990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41120" y="2463840"/>
            <a:ext cx="2529360" cy="246240"/>
            <a:chOff x="1941120" y="2463840"/>
            <a:chExt cx="2529360" cy="246240"/>
          </a:xfrm>
        </p:grpSpPr>
        <p:sp>
          <p:nvSpPr>
            <p:cNvPr id="62" name=""/>
            <p:cNvSpPr/>
            <p:nvPr/>
          </p:nvSpPr>
          <p:spPr>
            <a:xfrm>
              <a:off x="1941120" y="2463840"/>
              <a:ext cx="22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Trennstelle, isolierte Schienenverbi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76640" y="2557440"/>
              <a:ext cx="393840" cy="76320"/>
            </a:xfrm>
            <a:prstGeom prst="rightArrow">
              <a:avLst>
                <a:gd name="adj1" fmla="val 50000"/>
                <a:gd name="adj2" fmla="val 129009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 flipH="1">
            <a:off x="4561560" y="2083680"/>
            <a:ext cx="12888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293720" y="3079800"/>
            <a:ext cx="1643760" cy="382680"/>
            <a:chOff x="4293720" y="3079800"/>
            <a:chExt cx="1643760" cy="382680"/>
          </a:xfrm>
        </p:grpSpPr>
        <p:sp>
          <p:nvSpPr>
            <p:cNvPr id="66" name=""/>
            <p:cNvSpPr/>
            <p:nvPr/>
          </p:nvSpPr>
          <p:spPr>
            <a:xfrm>
              <a:off x="4424040" y="3079800"/>
              <a:ext cx="74880" cy="2001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93720" y="3216240"/>
              <a:ext cx="16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feste elektrische Verbind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412040" y="3200040"/>
            <a:ext cx="1083600" cy="246600"/>
            <a:chOff x="7412040" y="3200040"/>
            <a:chExt cx="1083600" cy="246600"/>
          </a:xfrm>
        </p:grpSpPr>
        <p:sp>
          <p:nvSpPr>
            <p:cNvPr id="69" name=""/>
            <p:cNvSpPr/>
            <p:nvPr/>
          </p:nvSpPr>
          <p:spPr>
            <a:xfrm flipV="1">
              <a:off x="7412040" y="3199680"/>
              <a:ext cx="74160" cy="199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-360 h 199800"/>
                <a:gd name="textAreaBottom" fmla="*/ 19980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12760" y="320040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An Rückmeld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68960" y="41580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lektrischer Aufbau der Märklin Weiche 22715 (oder 227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4560" y="3532320"/>
            <a:ext cx="128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Joan Drenth 11 März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470480" y="1908000"/>
            <a:ext cx="1893240" cy="246240"/>
            <a:chOff x="4470480" y="1908000"/>
            <a:chExt cx="1893240" cy="246240"/>
          </a:xfrm>
        </p:grpSpPr>
        <p:sp>
          <p:nvSpPr>
            <p:cNvPr id="74" name=""/>
            <p:cNvSpPr/>
            <p:nvPr/>
          </p:nvSpPr>
          <p:spPr>
            <a:xfrm rot="327000">
              <a:off x="4471920" y="1971720"/>
              <a:ext cx="976320" cy="74520"/>
            </a:xfrm>
            <a:prstGeom prst="leftArrow">
              <a:avLst>
                <a:gd name="adj1" fmla="val 50000"/>
                <a:gd name="adj2" fmla="val 327536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0440" y="1908000"/>
              <a:ext cx="95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stromloser Te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flipH="1" flipV="1">
            <a:off x="4028760" y="1893600"/>
            <a:ext cx="431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027320" y="1896120"/>
            <a:ext cx="434880" cy="114120"/>
            <a:chOff x="4027320" y="1896120"/>
            <a:chExt cx="434880" cy="114120"/>
          </a:xfrm>
        </p:grpSpPr>
        <p:sp>
          <p:nvSpPr>
            <p:cNvPr id="78" name=""/>
            <p:cNvSpPr/>
            <p:nvPr/>
          </p:nvSpPr>
          <p:spPr>
            <a:xfrm>
              <a:off x="4027320" y="1897560"/>
              <a:ext cx="4348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62200" y="18961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870360" y="1900080"/>
            <a:ext cx="412560" cy="1144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782280" y="1441080"/>
            <a:ext cx="7620120" cy="3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3151080" y="157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464000" y="2012760"/>
            <a:ext cx="263520" cy="9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151400">
            <a:off x="4698720" y="2019240"/>
            <a:ext cx="88920" cy="7956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623840" y="1775880"/>
            <a:ext cx="16164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786200" y="144288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028760" y="1893600"/>
            <a:ext cx="431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027320" y="1896120"/>
            <a:ext cx="434880" cy="114120"/>
            <a:chOff x="4027320" y="1896120"/>
            <a:chExt cx="434880" cy="114120"/>
          </a:xfrm>
        </p:grpSpPr>
        <p:sp>
          <p:nvSpPr>
            <p:cNvPr id="89" name=""/>
            <p:cNvSpPr/>
            <p:nvPr/>
          </p:nvSpPr>
          <p:spPr>
            <a:xfrm>
              <a:off x="4027320" y="1897560"/>
              <a:ext cx="4348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62200" y="18961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 flipH="1" flipV="1">
            <a:off x="782640" y="1441080"/>
            <a:ext cx="7696080" cy="3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59920" y="1825200"/>
            <a:ext cx="412920" cy="3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3201840" y="1618920"/>
            <a:ext cx="663840" cy="212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916280" y="1452600"/>
            <a:ext cx="1272960" cy="16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151080" y="157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03160" y="1827360"/>
            <a:ext cx="7685280" cy="985680"/>
            <a:chOff x="803160" y="1827360"/>
            <a:chExt cx="7685280" cy="985680"/>
          </a:xfrm>
        </p:grpSpPr>
        <p:sp>
          <p:nvSpPr>
            <p:cNvPr id="97" name=""/>
            <p:cNvSpPr/>
            <p:nvPr/>
          </p:nvSpPr>
          <p:spPr>
            <a:xfrm flipV="1">
              <a:off x="7024680" y="2739600"/>
              <a:ext cx="1463760" cy="32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812880" y="2741760"/>
              <a:ext cx="4013280" cy="288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4704840" y="2107800"/>
              <a:ext cx="2318040" cy="63180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440" y="2739960"/>
              <a:ext cx="1298520" cy="7308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008680" y="2625480"/>
              <a:ext cx="412560" cy="11412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415120" y="2739600"/>
              <a:ext cx="685800" cy="32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3160" y="1897200"/>
              <a:ext cx="1463760" cy="288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465080" y="1895040"/>
              <a:ext cx="4012920" cy="32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7640" y="1900080"/>
              <a:ext cx="2318040" cy="63216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1898280" y="1827360"/>
              <a:ext cx="1298520" cy="7272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0360" y="1900080"/>
              <a:ext cx="412560" cy="11448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190680" y="1897200"/>
              <a:ext cx="685800" cy="288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10800000">
            <a:off x="3151080" y="1861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35080" y="1157400"/>
            <a:ext cx="1092960" cy="285480"/>
            <a:chOff x="1135080" y="1157400"/>
            <a:chExt cx="1092960" cy="285480"/>
          </a:xfrm>
        </p:grpSpPr>
        <p:sp>
          <p:nvSpPr>
            <p:cNvPr id="111" name=""/>
            <p:cNvSpPr/>
            <p:nvPr/>
          </p:nvSpPr>
          <p:spPr>
            <a:xfrm>
              <a:off x="1135080" y="1243080"/>
              <a:ext cx="74520" cy="1998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45160" y="115740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An Rückmeld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064200" y="270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1:48:47Z</dcterms:created>
  <dc:creator>Default</dc:creator>
  <dc:description/>
  <dc:language>en-US</dc:language>
  <cp:lastModifiedBy>Default</cp:lastModifiedBy>
  <cp:lastPrinted>2001-01-29T10:57:59Z</cp:lastPrinted>
  <dcterms:modified xsi:type="dcterms:W3CDTF">2002-06-02T13:07:55Z</dcterms:modified>
  <cp:revision>19</cp:revision>
  <dc:subject/>
  <dc:title>No Slide Title</dc:title>
</cp:coreProperties>
</file>